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471B-3802-4E79-B69E-0AEC4E985F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A26-0102-4772-8378-3DA8340F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F38-C78A-468D-9E47-D568E31A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ABE-73CC-42D4-BBB4-4B32DB66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4D8-6DC8-4CB2-A819-657F3938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234-6FD2-463C-A8CE-E4222833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CFB-A8B7-4CB0-83D0-BA4A2323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A31-6A34-432E-88CA-22D48A44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558-A313-4F60-A8ED-876A5EB8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4A8-B29E-432B-8FEB-3EFA2F02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379-574F-4CFC-95BE-603ACE10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810-388A-4320-A41A-3E8C8A16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580-47A5-4910-9D69-C2BBFFBC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D5B0-F737-4E72-8200-0C56DA8431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Reverse Transcription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ccccff"/>
            </a:gs>
            <a:gs pos="100000">
              <a:srgbClr val="e5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2"/>
          <p:cNvPicPr/>
          <p:nvPr/>
        </p:nvPicPr>
        <p:blipFill>
          <a:blip r:embed="rId1"/>
          <a:stretch/>
        </p:blipFill>
        <p:spPr>
          <a:xfrm>
            <a:off x="228600" y="228600"/>
            <a:ext cx="532440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638680" y="457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4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First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DNA hybridizes with the remaining R sequence at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562720" y="2286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5. A DNA strand is extended from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562720" y="411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6. Most viral RNA is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e5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380880" y="30492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41008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7. A second DNA strand is extended from the viral RN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410080" y="1905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8. Both tRNA and the remaining viral RNA are removed by RNase H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410080" y="3352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9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Second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The PBS region of the second strand hybridizes with the PBS region of the first stra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410080" y="502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0. Extension on both DNA strands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has a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high err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ate when transcribing RNA into DNA  as unlike DNA Polymerase, since it ha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no proof reading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high error rate allow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ut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ccumu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ercially available RT produced by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Promeg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quoted high error rates in range of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17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p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30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s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-M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DN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e Transcriptase can use single stranded RNA into DS DNA – c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NA library: A set of clones representing as many as possible of the mRNAs in a given cell type at given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paration cDNA library, mRNA is extracted, purified, and treated with the enzyme reverse transcripta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ary DNA (cDNA) analogs of the isolated mRNA are thereby obtai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mature mRNA contains no introns or regulatory regions, a cDNA library composed of coding reg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entral Dogm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248520" cy="45388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al transcription involves synthesis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from DN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ion is the transcription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single stranded RNA into double stranded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the help of the enzym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se Transcripta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also known as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directed D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Nucleotidyl transf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RNA dir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t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was discovered by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oward Tem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Baltimo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70 independent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hare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Nobel Priz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hysiology or Medicine in 1975 for their discove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common in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M-ML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Moloney Murine Leukemia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vian Myeloblastosis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enzyme includes two activity: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polym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se 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 Replication Cycl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5" descr="HIV5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7162920" y="3276720"/>
            <a:ext cx="1447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s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38880" y="4267080"/>
            <a:ext cx="1447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04920" y="4114800"/>
            <a:ext cx="1447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st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962520" y="6019920"/>
            <a:ext cx="0" cy="38088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3962520" y="16002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8915400" y="1600200"/>
            <a:ext cx="0" cy="48006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685800" y="6248520"/>
            <a:ext cx="320040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ckaging into virus ; bud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iviral dru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do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mi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fov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retrovirus has three or four g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g-pol- en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ovirus are called + strand because viral RNA itself code for protein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enzyme code for proteins are called – str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: Redundant or repeating seq – 10-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5:  80 – 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3: 170-13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DNA polymerase, Reverse transcriptase requires prim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NA of the host is Pr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219320"/>
            <a:ext cx="526716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609480" y="3808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5813"/>
                </a:solidFill>
                <a:latin typeface="Tahoma"/>
              </a:rPr>
              <a:t>MECHANSIM OF RETROVIRUS RE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410080" y="1371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. A Retrovirus specific cellular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tR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hybridizes with a complementary region called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PBS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Primer Binding Si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334120" y="2666880"/>
            <a:ext cx="350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everse Transcriptas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RT) starts at this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inding sit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and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copies RNA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into a single strand of complementary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D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. A DNA segment is extended from tRNA based on the sequence of the retroviral genomic R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410080" y="51814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3. The viral R and U5 sequences are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.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380880" y="5867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TR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Long Terminal Repe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ef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5’ untranslated region (U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Righ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3’ untranslated region (U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2:55:33Z</dcterms:created>
  <dc:creator>Paul Rindler</dc:creator>
  <dc:description/>
  <dc:language>en-US</dc:language>
  <cp:lastModifiedBy>LEGION2</cp:lastModifiedBy>
  <dcterms:modified xsi:type="dcterms:W3CDTF">2016-01-12T12:22:08Z</dcterms:modified>
  <cp:revision>34</cp:revision>
  <dc:subject/>
  <dc:title>Molecular Genetics</dc:title>
</cp:coreProperties>
</file>